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42B5-1ACF-4431-8E0C-0AEE7AD6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D4EA-AC9C-4B80-A309-1ACC0BF7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DC00-A31F-43AF-AFE8-6BF20E242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7829-2F84-426D-8C75-DE7A98D87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ADBB-5D21-4935-853C-E9250892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F879-7EA7-4D9A-9C37-02816CB4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379B-8CB4-43D0-9D66-21C438D0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F13B-B47D-4B99-9BED-49F68041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BEB3-DB40-4558-9CF8-9134AE27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80BA-B7AC-4E11-B035-BCDFBD45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D835-5EAA-409D-9E8A-0098F93C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A151-D71A-4331-A809-03B524E6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8C12-AA39-446F-8910-FB8B4C48F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thefloweringearth0@gmail.co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413000"/>
            <a:ext cx="82296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Преобразование целого выражения</a:t>
            </a:r>
            <a:br>
              <a:rPr sz="3000"/>
            </a:b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 в многочле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5516640"/>
            <a:ext cx="7761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Урок алгебры в дистанционной форме. </a:t>
            </a:r>
            <a:br>
              <a:rPr sz="3000"/>
            </a:b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64000" y="620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реля 202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а + 3в)(2а-4в)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 2а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4ав + 6ав - 12в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2а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 2ав - 12в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54936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а в класс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02920" y="333360"/>
            <a:ext cx="6769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амостоятельная работа. 10 апреля 2020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052640"/>
            <a:ext cx="396072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простите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) (с – 2)(с + 3) – с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) 7(х + 8) + (х + 8)(х – 8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) (х + 5)4х – (2х + 5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16360" y="1052640"/>
            <a:ext cx="396108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простите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) (с + 4)(с – 1) – с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) 5(х – 4) – (х + 4)(х – 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) (3 – 4х)16х + (8х – 3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3573360"/>
            <a:ext cx="39607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ите уравн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(х - 2)(х + 1)=х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х - 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3280" y="3573360"/>
            <a:ext cx="39610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ите уравн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(х + 3)(х - 1)=х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х + 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5300640"/>
            <a:ext cx="835344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ремя выполнения 15 мину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Критерий оценки: 5 – все решены верно, 4 – три решены верно, 3 – два решены верн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0000" y="1628640"/>
            <a:ext cx="727236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ть §14, раздел 37. Преобразование целого выражения в многочлен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ть № 927, прислать фотографи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9160" y="4292640"/>
            <a:ext cx="884556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134100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Следующее занятие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3.04.2020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437000"/>
            <a:ext cx="7417080" cy="15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hefloweringearth0@g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й адрес  электронной поч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42920" y="3284640"/>
            <a:ext cx="7274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В воскресенье – День космонавтики.</a:t>
            </a:r>
            <a:br>
              <a:rPr sz="3000"/>
            </a:b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 Каких космонавтов вы знает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30T15:26:07Z</dcterms:created>
  <dc:creator>Севастьянова Гузель Фатыховна</dc:creator>
  <dc:description/>
  <dc:language>en-US</dc:language>
  <cp:lastModifiedBy>Севастьянова Гузель Фатыховна</cp:lastModifiedBy>
  <dcterms:modified xsi:type="dcterms:W3CDTF">2020-04-10T06:56:51Z</dcterms:modified>
  <cp:revision>50</cp:revision>
  <dc:subject/>
  <dc:title>Слайд 1</dc:title>
</cp:coreProperties>
</file>